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895-A98D-46E0-9C4A-0CDFDF74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AC2-E631-4C21-AEB3-58B6158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5AE-8E8B-4642-B864-B918508A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9BF-71A8-448A-9F9A-D93D6DF1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DAD-F307-4BA2-9B6B-691877C6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19A-E9C1-46D0-A72E-E2D5B37D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9C6-0594-4121-8325-509A5E25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DEB-DBF3-43D1-AD5A-39CEB8B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BF2-70F1-495D-AB1C-760A604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E65-FB95-4D41-B9CA-827C4A77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59C-70A9-4EDA-BE37-3231578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072-6848-48C3-8541-F99A748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0F4-3EA7-4321-9248-01866DE4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goeshealth.com/wp-content/uploads/2012/02/baby-toothbrush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905120"/>
            <a:ext cx="49532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13500000"/>
                </a:gradFill>
                <a:latin typeface="Arial Black"/>
              </a:rPr>
              <a:t>La Bebé Rutin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3581280"/>
            <a:ext cx="4343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8100000"/>
                </a:gradFill>
                <a:latin typeface="Arial Black"/>
              </a:rPr>
              <a:t>By: Nicole Hill, and Faye Sino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ccff"/>
                </a:solidFill>
                <a:latin typeface="Comic Sans MS"/>
              </a:rPr>
              <a:t>El beb</a:t>
            </a:r>
            <a:r>
              <a:rPr b="0" lang="en-US" sz="3200" spc="-1" strike="noStrike">
                <a:solidFill>
                  <a:srgbClr val="00ccff"/>
                </a:solidFill>
                <a:latin typeface="Comic Sans MS"/>
                <a:ea typeface="Arial"/>
              </a:rPr>
              <a:t>è se desperta enseguida en la manaña. Despues, el bebé se levanta de la cam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00680" cy="363852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3124080" y="380880"/>
            <a:ext cx="3029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3399ff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pertarse</a:t>
            </a:r>
            <a:endParaRPr b="0" lang="en-US" sz="1800" spc="1" strike="noStrike">
              <a:ln w="1260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3399ff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066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Ba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  <a:ea typeface="Arial"/>
              </a:rPr>
              <a:t>ñ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El beb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  <a:ea typeface="Arial"/>
              </a:rPr>
              <a:t>è se baña, no se ducha. Se lava el pelo con el champú, y se lava el cuerpo con una barra de jab</a:t>
            </a:r>
            <a:r>
              <a:rPr b="1" lang="el-GR" sz="2800" spc="-1" strike="noStrike">
                <a:solidFill>
                  <a:srgbClr val="6600cc"/>
                </a:solidFill>
                <a:latin typeface="Comic Sans MS"/>
                <a:ea typeface="Arial"/>
              </a:rPr>
              <a:t>ό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  <a:ea typeface="Arial"/>
              </a:rPr>
              <a:t>n. El bebé se cepilla de dientes con un tubo de pasta denti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048120" cy="2743200"/>
          </a:xfrm>
          <a:prstGeom prst="rect">
            <a:avLst/>
          </a:prstGeom>
          <a:ln w="57240">
            <a:solidFill>
              <a:srgbClr val="00ccff"/>
            </a:solidFill>
            <a:miter/>
          </a:ln>
        </p:spPr>
      </p:pic>
      <p:pic>
        <p:nvPicPr>
          <p:cNvPr id="49" name="" descr="baby toothbrush 200x300 baby toothbru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3733920"/>
            <a:ext cx="2514600" cy="285732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66ff33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 beb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 pone la ropa y se cepilla el pelo. De vez cuando se mira en el espejo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46200" cy="2485800"/>
          </a:xfrm>
          <a:prstGeom prst="rect">
            <a:avLst/>
          </a:prstGeom>
          <a:ln w="57240">
            <a:solidFill>
              <a:srgbClr val="9966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873160" cy="2914920"/>
          </a:xfrm>
          <a:prstGeom prst="rect">
            <a:avLst/>
          </a:prstGeom>
          <a:ln w="76320">
            <a:solidFill>
              <a:srgbClr val="66ff33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22860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66ff33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nerse La rop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66ff33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66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ayun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b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é se desayuna en la cocina. Se toma un vaso de jugo de naranja, y el pan tostado. Despues, se lava los manos y la c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124080" cy="3124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2857680" cy="1886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9:01Z</dcterms:created>
  <dc:creator>hillnic</dc:creator>
  <dc:description/>
  <dc:language>en-US</dc:language>
  <cp:lastModifiedBy>hillnic</cp:lastModifiedBy>
  <dcterms:modified xsi:type="dcterms:W3CDTF">2012-04-04T17:21:28Z</dcterms:modified>
  <cp:revision>4</cp:revision>
  <dc:subject/>
  <dc:title>La bebe rutina</dc:title>
</cp:coreProperties>
</file>